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D6EE-FF38-4D7E-B813-BC4121DB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40C8-14A4-4A58-85F5-0864FA59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DCE4-B8EC-46C6-A67A-CA35DE64C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3F45-06F4-4388-A385-1309AB8A7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D6A9-1F02-40C7-9F71-F57CBB90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067A-4AF0-4162-868D-7D92AD7D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4B79-A14E-4D15-AC81-8E125F99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D4D1-1E19-4178-A141-6309C647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362F-A7F0-41E3-B7FC-D1B1AA4D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AFA0-F2EC-433E-BD02-AD96BBDB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6791-4FAC-45B5-A6E2-A7474D67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0A36-7024-4A4A-B592-A5C77BEB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9EB8-13AA-4504-89D1-3276443CCC7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主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396720" y="1989000"/>
            <a:ext cx="835200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ffff00"/>
                  </a:solidFill>
                  <a:round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听听，秋的声音</a:t>
            </a:r>
            <a:endParaRPr b="1" lang="en-US" sz="9600" spc="1" strike="noStrike">
              <a:ln w="19080">
                <a:solidFill>
                  <a:srgbClr val="ffff00"/>
                </a:solidFill>
                <a:round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539640" y="4762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人教新课标三年级语文上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2" descr="9252150_101558618326_2_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排排大雁追上白云，撒下一阵暖暖的叮咛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雁好像在说：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“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   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直接连接符 6"/>
          <p:cNvSpPr/>
          <p:nvPr/>
        </p:nvSpPr>
        <p:spPr>
          <a:xfrm>
            <a:off x="4857840" y="4429080"/>
            <a:ext cx="3500280" cy="1800"/>
          </a:xfrm>
          <a:prstGeom prst="line">
            <a:avLst/>
          </a:prstGeom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8"/>
          <p:cNvSpPr/>
          <p:nvPr/>
        </p:nvSpPr>
        <p:spPr>
          <a:xfrm>
            <a:off x="1000080" y="5214960"/>
            <a:ext cx="2643120" cy="1440"/>
          </a:xfrm>
          <a:prstGeom prst="line">
            <a:avLst/>
          </a:prstGeom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3" descr="9252150_101558618326_2_副本.jpg"/>
          <p:cNvPicPr/>
          <p:nvPr/>
        </p:nvPicPr>
        <p:blipFill>
          <a:blip r:embed="rId1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阵阵秋风掠过田野，发出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“   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　　　　　         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的声音，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这是秋风送来的丰收的歌吟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田野热情地说：“                                  ”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直接连接符 7"/>
          <p:cNvSpPr/>
          <p:nvPr/>
        </p:nvSpPr>
        <p:spPr>
          <a:xfrm>
            <a:off x="7358040" y="2214720"/>
            <a:ext cx="1071720" cy="1440"/>
          </a:xfrm>
          <a:prstGeom prst="line">
            <a:avLst/>
          </a:prstGeom>
          <a:ln w="2844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9"/>
          <p:cNvSpPr/>
          <p:nvPr/>
        </p:nvSpPr>
        <p:spPr>
          <a:xfrm>
            <a:off x="4714920" y="4143240"/>
            <a:ext cx="3357360" cy="1800"/>
          </a:xfrm>
          <a:prstGeom prst="line">
            <a:avLst/>
          </a:prstGeom>
          <a:ln w="2844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内容占位符 3" descr="9252150_101558618326_2_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矩形 4"/>
          <p:cNvSpPr/>
          <p:nvPr/>
        </p:nvSpPr>
        <p:spPr>
          <a:xfrm>
            <a:off x="2286000" y="0"/>
            <a:ext cx="4572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听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秋的声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树抖抖手臂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刷刷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黄叶道别的话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听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秋的声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蟋蟀振动翅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　　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和阳台告别的歌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排排大雁追上白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撒下一阵暖暖的叮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阵阵秋风掠过田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送来一片丰收的歌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未命名"/>
          <p:cNvPicPr/>
          <p:nvPr/>
        </p:nvPicPr>
        <p:blipFill>
          <a:blip r:embed="rId2"/>
          <a:stretch/>
        </p:blipFill>
        <p:spPr>
          <a:xfrm>
            <a:off x="2857680" y="3929040"/>
            <a:ext cx="533160" cy="447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未命名"/>
          <p:cNvPicPr/>
          <p:nvPr/>
        </p:nvPicPr>
        <p:blipFill>
          <a:blip r:embed="rId3"/>
          <a:stretch/>
        </p:blipFill>
        <p:spPr>
          <a:xfrm>
            <a:off x="4000680" y="3929040"/>
            <a:ext cx="5331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1" descr="t011144b2c0ef33997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2468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6429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华文行楷"/>
                <a:ea typeface="华文行楷"/>
              </a:rPr>
              <a:t>想象创作，续写小诗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14240" y="2642760"/>
            <a:ext cx="797256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四人小组合作写诗，每人一节，合成一首诗歌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为组里写的诗配上合适的图画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风声"/>
          <p:cNvPicPr/>
          <p:nvPr/>
        </p:nvPicPr>
        <p:blipFill>
          <a:blip r:embed="rId1"/>
          <a:srcRect l="0" t="0" r="2687" b="18494"/>
          <a:stretch/>
        </p:blipFill>
        <p:spPr>
          <a:xfrm>
            <a:off x="0" y="73080"/>
            <a:ext cx="9144000" cy="67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流水图"/>
          <p:cNvPicPr/>
          <p:nvPr/>
        </p:nvPicPr>
        <p:blipFill>
          <a:blip r:embed="rId1"/>
          <a:stretch/>
        </p:blipFill>
        <p:spPr>
          <a:xfrm>
            <a:off x="0" y="0"/>
            <a:ext cx="9540720" cy="82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雨声"/>
          <p:cNvPicPr/>
          <p:nvPr/>
        </p:nvPicPr>
        <p:blipFill>
          <a:blip r:embed="rId1"/>
          <a:stretch/>
        </p:blipFill>
        <p:spPr>
          <a:xfrm>
            <a:off x="-324000" y="-243000"/>
            <a:ext cx="9792000" cy="770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风声"/>
          <p:cNvPicPr/>
          <p:nvPr/>
        </p:nvPicPr>
        <p:blipFill>
          <a:blip r:embed="rId1"/>
          <a:stretch/>
        </p:blipFill>
        <p:spPr>
          <a:xfrm>
            <a:off x="179280" y="0"/>
            <a:ext cx="3780000" cy="3429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流水图"/>
          <p:cNvPicPr/>
          <p:nvPr/>
        </p:nvPicPr>
        <p:blipFill>
          <a:blip r:embed="rId2"/>
          <a:stretch/>
        </p:blipFill>
        <p:spPr>
          <a:xfrm>
            <a:off x="5111640" y="0"/>
            <a:ext cx="4032360" cy="3429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雨声"/>
          <p:cNvPicPr/>
          <p:nvPr/>
        </p:nvPicPr>
        <p:blipFill>
          <a:blip r:embed="rId3"/>
          <a:srcRect l="0" t="0" r="1152" b="8002"/>
          <a:stretch/>
        </p:blipFill>
        <p:spPr>
          <a:xfrm>
            <a:off x="0" y="2897280"/>
            <a:ext cx="3132000" cy="396072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5"/>
          <p:cNvGrpSpPr/>
          <p:nvPr/>
        </p:nvGrpSpPr>
        <p:grpSpPr>
          <a:xfrm>
            <a:off x="2987640" y="3141720"/>
            <a:ext cx="4176720" cy="4608720"/>
            <a:chOff x="2987640" y="3141720"/>
            <a:chExt cx="4176720" cy="4608720"/>
          </a:xfrm>
        </p:grpSpPr>
        <p:sp>
          <p:nvSpPr>
            <p:cNvPr id="115" name="Text Box 6"/>
            <p:cNvSpPr/>
            <p:nvPr/>
          </p:nvSpPr>
          <p:spPr>
            <a:xfrm>
              <a:off x="2987640" y="3141720"/>
              <a:ext cx="4176720" cy="46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听听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秋的声音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                   </a:t>
              </a:r>
              <a:r>
                <a:rPr b="1" lang="en-US" sz="24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,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“</a:t>
              </a:r>
              <a:r>
                <a:rPr b="1" lang="en-US" sz="24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       </a:t>
              </a:r>
              <a:r>
                <a:rPr b="1" lang="en-US" sz="24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”</a:t>
              </a:r>
              <a:r>
                <a:rPr b="1" lang="en-US" sz="24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                 </a:t>
              </a:r>
              <a:r>
                <a:rPr b="1" lang="zh-CN" sz="24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。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7"/>
            <p:cNvSpPr/>
            <p:nvPr/>
          </p:nvSpPr>
          <p:spPr>
            <a:xfrm>
              <a:off x="3132360" y="5013360"/>
              <a:ext cx="2663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3132360" y="566280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9"/>
            <p:cNvSpPr/>
            <p:nvPr/>
          </p:nvSpPr>
          <p:spPr>
            <a:xfrm>
              <a:off x="3203640" y="623736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Picture 10" descr="22"/>
          <p:cNvPicPr/>
          <p:nvPr/>
        </p:nvPicPr>
        <p:blipFill>
          <a:blip r:embed="rId4"/>
          <a:stretch/>
        </p:blipFill>
        <p:spPr>
          <a:xfrm>
            <a:off x="5867280" y="2924280"/>
            <a:ext cx="30956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755640" y="549360"/>
            <a:ext cx="748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276720" y="189000"/>
            <a:ext cx="4535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听听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走进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走进这辽阔的音乐厅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你好好地去听秋的声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秋的声音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在每一片叶子里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在每一朵小花里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在每一滴汗水里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在每一颗绽开的谷粒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听听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秋的声音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从远方匆匆地来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向远方匆匆地去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听听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我们听到了秋的声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主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3"/>
          <p:cNvSpPr txBox="1"/>
          <p:nvPr/>
        </p:nvSpPr>
        <p:spPr>
          <a:xfrm>
            <a:off x="396720" y="1989000"/>
            <a:ext cx="835200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ffff00"/>
                  </a:solidFill>
                  <a:round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听听，秋的声音</a:t>
            </a:r>
            <a:endParaRPr b="1" lang="en-US" sz="9600" spc="1" strike="noStrike">
              <a:ln w="19080">
                <a:solidFill>
                  <a:srgbClr val="ffff00"/>
                </a:solidFill>
                <a:round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1" descr="t011144b2c0ef33997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pic>
        <p:nvPicPr>
          <p:cNvPr id="123" name="矩形 6" descr=""/>
          <p:cNvPicPr/>
          <p:nvPr/>
        </p:nvPicPr>
        <p:blipFill>
          <a:blip r:embed="rId2"/>
          <a:stretch/>
        </p:blipFill>
        <p:spPr>
          <a:xfrm>
            <a:off x="1000080" y="2214720"/>
            <a:ext cx="750096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9252150_101558618326_2_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整体感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858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自由朗读，读准字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通读全文，说说你在诗中听到了哪些声音？你最喜欢哪种声音？多读几遍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一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80520" y="251460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臂   刷 牙 　蟋 蟀   振 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韵 律  叮 咛 　掠 过   吟 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辽 阔  大 厅 　绽 开   匆 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357200" y="2000160"/>
            <a:ext cx="10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zypyyb"/>
                <a:ea typeface="zypyyb"/>
              </a:rPr>
              <a:t> </a:t>
            </a:r>
            <a:r>
              <a:rPr b="1" lang="en-US" sz="2800" spc="-1" strike="noStrike">
                <a:solidFill>
                  <a:srgbClr val="1f497d"/>
                </a:solidFill>
                <a:latin typeface="zypyyb"/>
                <a:ea typeface="zypyyb"/>
              </a:rPr>
              <a:t>b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066680" y="1677960"/>
            <a:ext cx="6782040" cy="74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643280" y="200016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zypyyb"/>
                <a:ea typeface="zypyyb"/>
              </a:rPr>
              <a:t> </a:t>
            </a:r>
            <a:r>
              <a:rPr b="1" lang="en-US" sz="2800" spc="-1" strike="noStrike">
                <a:solidFill>
                  <a:srgbClr val="1f497d"/>
                </a:solidFill>
                <a:latin typeface="zypyyb"/>
                <a:ea typeface="zypyyb"/>
              </a:rPr>
              <a:t>xī shuà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928800" y="507204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zypyyb"/>
                <a:ea typeface="zypyyb"/>
              </a:rPr>
              <a:t>liá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6643800" y="507204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zypyyb"/>
                <a:ea typeface="zypyyb"/>
              </a:rPr>
              <a:t>cō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6705720" y="1981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zypyyb"/>
                <a:ea typeface="zypyyb"/>
              </a:rPr>
              <a:t>zhè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4714920" y="507204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zypyyb"/>
                <a:ea typeface="zypyyb"/>
              </a:rPr>
              <a:t>zh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3357720" y="50720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zypyyb"/>
                <a:ea typeface="zypyyb"/>
              </a:rPr>
              <a:t>tī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857160" y="3429000"/>
            <a:ext cx="12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zypyyb"/>
                <a:ea typeface="zypyyb"/>
              </a:rPr>
              <a:t>yù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2500200" y="34290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zypyyb"/>
                <a:ea typeface="zypyyb"/>
              </a:rPr>
              <a:t>dīng  ní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9"/>
          <p:cNvSpPr/>
          <p:nvPr/>
        </p:nvSpPr>
        <p:spPr>
          <a:xfrm>
            <a:off x="4786200" y="3429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zypyyb"/>
                <a:ea typeface="zypyyb"/>
              </a:rPr>
              <a:t>lü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6786720" y="34290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zypyyb"/>
                <a:ea typeface="zypyyb"/>
              </a:rPr>
              <a:t>y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2571840" y="1928880"/>
            <a:ext cx="117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zypyyb"/>
                <a:ea typeface="zypyyb"/>
              </a:rPr>
              <a:t>shuā</a:t>
            </a:r>
            <a:r>
              <a:rPr b="0" lang="en-US" sz="2800" spc="-1" strike="noStrike">
                <a:solidFill>
                  <a:srgbClr val="1f497d"/>
                </a:solidFill>
                <a:latin typeface="zypyyb"/>
                <a:ea typeface="zypyyb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3" descr="C:\Documents and Settings\zyan\桌面\a2-2.gif"/>
          <p:cNvPicPr/>
          <p:nvPr/>
        </p:nvPicPr>
        <p:blipFill>
          <a:blip r:embed="rId1"/>
          <a:stretch/>
        </p:blipFill>
        <p:spPr>
          <a:xfrm>
            <a:off x="8153280" y="5973840"/>
            <a:ext cx="914400" cy="73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第一节"/>
          <p:cNvPicPr/>
          <p:nvPr/>
        </p:nvPicPr>
        <p:blipFill>
          <a:blip r:embed="rId1"/>
          <a:stretch/>
        </p:blipFill>
        <p:spPr>
          <a:xfrm>
            <a:off x="-68436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4788000" y="1052640"/>
            <a:ext cx="48243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听听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秋的声音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大树抖抖手臂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刷刷”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是黄叶道别的话音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3851280" y="587700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3839" y="3794"/>
                </a:moveTo>
                <a:lnTo>
                  <a:pt x="17851" y="10800"/>
                </a:lnTo>
                <a:lnTo>
                  <a:pt x="3839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xishuai"/>
          <p:cNvPicPr/>
          <p:nvPr/>
        </p:nvPicPr>
        <p:blipFill>
          <a:blip r:embed="rId1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3492360" y="5950080"/>
            <a:ext cx="648000" cy="57456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4"/>
          <p:cNvSpPr/>
          <p:nvPr/>
        </p:nvSpPr>
        <p:spPr>
          <a:xfrm>
            <a:off x="468360" y="5950080"/>
            <a:ext cx="431640" cy="3585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5998" h="21600">
                <a:moveTo>
                  <a:pt x="0" y="0"/>
                </a:moveTo>
                <a:lnTo>
                  <a:pt x="25998" y="0"/>
                </a:lnTo>
                <a:lnTo>
                  <a:pt x="25998" y="21600"/>
                </a:lnTo>
                <a:lnTo>
                  <a:pt x="0" y="21600"/>
                </a:lnTo>
                <a:close/>
              </a:path>
              <a:path fill="lightenLess" w="25998" h="21600">
                <a:moveTo>
                  <a:pt x="0" y="0"/>
                </a:moveTo>
                <a:lnTo>
                  <a:pt x="25998" y="0"/>
                </a:lnTo>
                <a:lnTo>
                  <a:pt x="24598" y="1400"/>
                </a:lnTo>
                <a:lnTo>
                  <a:pt x="1400" y="1400"/>
                </a:lnTo>
                <a:close/>
              </a:path>
              <a:path fill="darken" w="25998" h="21600">
                <a:moveTo>
                  <a:pt x="25998" y="0"/>
                </a:moveTo>
                <a:lnTo>
                  <a:pt x="25998" y="21600"/>
                </a:lnTo>
                <a:lnTo>
                  <a:pt x="24598" y="20200"/>
                </a:lnTo>
                <a:lnTo>
                  <a:pt x="24598" y="1400"/>
                </a:lnTo>
                <a:close/>
              </a:path>
              <a:path fill="darkenLess" w="25998" h="21600">
                <a:moveTo>
                  <a:pt x="25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8" y="20200"/>
                </a:lnTo>
                <a:close/>
              </a:path>
              <a:path fill="lighten" w="25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8" h="21600">
                <a:moveTo>
                  <a:pt x="5993" y="3794"/>
                </a:moveTo>
                <a:lnTo>
                  <a:pt x="20005" y="10800"/>
                </a:lnTo>
                <a:lnTo>
                  <a:pt x="5993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5"/>
          <p:cNvGrpSpPr/>
          <p:nvPr/>
        </p:nvGrpSpPr>
        <p:grpSpPr>
          <a:xfrm>
            <a:off x="4284720" y="1052640"/>
            <a:ext cx="5472000" cy="4411440"/>
            <a:chOff x="4284720" y="1052640"/>
            <a:chExt cx="5472000" cy="4411440"/>
          </a:xfrm>
        </p:grpSpPr>
        <p:sp>
          <p:nvSpPr>
            <p:cNvPr id="72" name="Text Box 6"/>
            <p:cNvSpPr/>
            <p:nvPr/>
          </p:nvSpPr>
          <p:spPr>
            <a:xfrm>
              <a:off x="4284720" y="1052640"/>
              <a:ext cx="5472000" cy="44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听听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秋的声音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蟋蟀振动翅膀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cc"/>
                  </a:solidFill>
                  <a:latin typeface="宋体"/>
                  <a:ea typeface="楷体_GB2312"/>
                </a:rPr>
                <a:t>“</a:t>
              </a:r>
              <a:r>
                <a:rPr b="1" lang="zh-CN" sz="40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　　</a:t>
              </a:r>
              <a:r>
                <a:rPr b="1" lang="zh-CN" sz="4000" spc="-1" strike="noStrike">
                  <a:solidFill>
                    <a:srgbClr val="0000cc"/>
                  </a:solidFill>
                  <a:latin typeface="宋体"/>
                  <a:ea typeface="楷体_GB2312"/>
                </a:rPr>
                <a:t>”</a:t>
              </a:r>
              <a:r>
                <a:rPr b="1" lang="zh-CN" sz="40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是和阳台告别的歌韵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7"/>
            <p:cNvGrpSpPr/>
            <p:nvPr/>
          </p:nvGrpSpPr>
          <p:grpSpPr>
            <a:xfrm>
              <a:off x="4859280" y="3917880"/>
              <a:ext cx="1109880" cy="463680"/>
              <a:chOff x="4859280" y="3917880"/>
              <a:chExt cx="1109880" cy="463680"/>
            </a:xfrm>
          </p:grpSpPr>
          <p:pic>
            <p:nvPicPr>
              <p:cNvPr id="74" name="Picture 8" descr="未命名"/>
              <p:cNvPicPr/>
              <p:nvPr/>
            </p:nvPicPr>
            <p:blipFill>
              <a:blip r:embed="rId3"/>
              <a:stretch/>
            </p:blipFill>
            <p:spPr>
              <a:xfrm>
                <a:off x="4859280" y="3933720"/>
                <a:ext cx="533520" cy="44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Picture 9" descr="未命名"/>
              <p:cNvPicPr/>
              <p:nvPr/>
            </p:nvPicPr>
            <p:blipFill>
              <a:blip r:embed="rId4"/>
              <a:stretch/>
            </p:blipFill>
            <p:spPr>
              <a:xfrm>
                <a:off x="5435640" y="3917880"/>
                <a:ext cx="533520" cy="447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282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大雁清晰"/>
          <p:cNvPicPr/>
          <p:nvPr/>
        </p:nvPicPr>
        <p:blipFill>
          <a:blip r:embed="rId1"/>
          <a:stretch/>
        </p:blipFill>
        <p:spPr>
          <a:xfrm>
            <a:off x="0" y="0"/>
            <a:ext cx="9144000" cy="3645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2050920" y="3645000"/>
            <a:ext cx="6842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一排排大雁追上白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撒下一阵暖暖的叮咛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8172360" y="602136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3794"/>
                </a:moveTo>
                <a:lnTo>
                  <a:pt x="24274" y="10800"/>
                </a:lnTo>
                <a:lnTo>
                  <a:pt x="1026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124000" y="3716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050920" y="522936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一阵阵秋风掠过田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送来一片丰收的歌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2" descr="t011144b2c0ef33997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030a0"/>
                </a:solidFill>
                <a:latin typeface="华文行楷"/>
                <a:ea typeface="华文行楷"/>
              </a:rPr>
              <a:t>想象大比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大树抖抖手臂，“刷刷”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是黄叶道别的声音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黄叶对大树妈妈说：“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。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直接连接符 8"/>
          <p:cNvSpPr/>
          <p:nvPr/>
        </p:nvSpPr>
        <p:spPr>
          <a:xfrm>
            <a:off x="5357880" y="4643280"/>
            <a:ext cx="3357360" cy="1800"/>
          </a:xfrm>
          <a:prstGeom prst="line">
            <a:avLst/>
          </a:prstGeom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12"/>
          <p:cNvSpPr/>
          <p:nvPr/>
        </p:nvSpPr>
        <p:spPr>
          <a:xfrm>
            <a:off x="1143000" y="5357880"/>
            <a:ext cx="3857760" cy="1440"/>
          </a:xfrm>
          <a:prstGeom prst="line">
            <a:avLst/>
          </a:prstGeom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2" descr="9252150_101558618326_2_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蟋蟀振动翅膀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“        ”，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是和阳台告别的歌韵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蟋蟀悄悄地说：“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             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。”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9" descr="未命名"/>
          <p:cNvPicPr/>
          <p:nvPr/>
        </p:nvPicPr>
        <p:blipFill>
          <a:blip r:embed="rId2"/>
          <a:stretch/>
        </p:blipFill>
        <p:spPr>
          <a:xfrm>
            <a:off x="5000760" y="1857240"/>
            <a:ext cx="533160" cy="447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未命名"/>
          <p:cNvPicPr/>
          <p:nvPr/>
        </p:nvPicPr>
        <p:blipFill>
          <a:blip r:embed="rId3"/>
          <a:stretch/>
        </p:blipFill>
        <p:spPr>
          <a:xfrm>
            <a:off x="6000840" y="1857240"/>
            <a:ext cx="533160" cy="447840"/>
          </a:xfrm>
          <a:prstGeom prst="rect">
            <a:avLst/>
          </a:prstGeom>
          <a:ln w="0">
            <a:noFill/>
          </a:ln>
        </p:spPr>
      </p:pic>
      <p:sp>
        <p:nvSpPr>
          <p:cNvPr id="90" name="直接连接符 8"/>
          <p:cNvSpPr/>
          <p:nvPr/>
        </p:nvSpPr>
        <p:spPr>
          <a:xfrm>
            <a:off x="4929120" y="3857760"/>
            <a:ext cx="3000600" cy="1440"/>
          </a:xfrm>
          <a:prstGeom prst="line">
            <a:avLst/>
          </a:prstGeom>
          <a:ln w="2844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10"/>
          <p:cNvSpPr/>
          <p:nvPr/>
        </p:nvSpPr>
        <p:spPr>
          <a:xfrm>
            <a:off x="928800" y="4572000"/>
            <a:ext cx="3643200" cy="1440"/>
          </a:xfrm>
          <a:prstGeom prst="line">
            <a:avLst/>
          </a:prstGeom>
          <a:ln w="2844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5:42:37Z</dcterms:created>
  <dc:creator>SYQ</dc:creator>
  <dc:description/>
  <dc:language>en-US</dc:language>
  <cp:lastModifiedBy>小慕</cp:lastModifiedBy>
  <dcterms:modified xsi:type="dcterms:W3CDTF">2018-09-16T01:31:23Z</dcterms:modified>
  <cp:revision>3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9</vt:lpwstr>
  </property>
</Properties>
</file>